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t">
            <a:noAutofit/>
          </a:bodyPr>
          <a:p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E0F0-3D9B-4151-9A6F-C8D1D6447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2120" y="384228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63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3864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1516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212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3864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1516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086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63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2120" y="384228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63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3864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1516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76212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3864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1516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086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63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"/>
            <p:cNvSpPr/>
            <p:nvPr/>
          </p:nvSpPr>
          <p:spPr>
            <a:xfrm>
              <a:off x="228600" y="282600"/>
              <a:ext cx="8610480" cy="61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1"/>
          <p:cNvSpPr/>
          <p:nvPr/>
        </p:nvSpPr>
        <p:spPr>
          <a:xfrm>
            <a:off x="533520" y="632448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3"/>
          <p:cNvSpPr/>
          <p:nvPr/>
        </p:nvSpPr>
        <p:spPr>
          <a:xfrm>
            <a:off x="606960" y="6477120"/>
            <a:ext cx="22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newable Energy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6"/>
          <p:cNvSpPr/>
          <p:nvPr/>
        </p:nvSpPr>
        <p:spPr>
          <a:xfrm>
            <a:off x="7346520" y="647712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0784-0E52-4A6B-8F1D-69C3CA8B6545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30">
            <a:hlinkClick r:id="" action="ppaction://hlinkshowjump?jump=nextslide"/>
          </p:cNvPr>
          <p:cNvSpPr/>
          <p:nvPr/>
        </p:nvSpPr>
        <p:spPr>
          <a:xfrm rot="5400000">
            <a:off x="8641440" y="6522120"/>
            <a:ext cx="158760" cy="176400"/>
          </a:xfrm>
          <a:prstGeom prst="triangle">
            <a:avLst>
              <a:gd name="adj" fmla="val 5000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31">
            <a:hlinkClick r:id="" action="ppaction://hlinkshowjump?jump=previousslide"/>
          </p:cNvPr>
          <p:cNvSpPr/>
          <p:nvPr/>
        </p:nvSpPr>
        <p:spPr>
          <a:xfrm flipH="1" rot="16200000">
            <a:off x="8363520" y="6520320"/>
            <a:ext cx="158760" cy="176400"/>
          </a:xfrm>
          <a:prstGeom prst="triangle">
            <a:avLst>
              <a:gd name="adj" fmla="val 5000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228600" y="282600"/>
              <a:ext cx="8610480" cy="61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Line 11"/>
          <p:cNvSpPr/>
          <p:nvPr/>
        </p:nvSpPr>
        <p:spPr>
          <a:xfrm>
            <a:off x="533520" y="632448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610920" y="647712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ject Finance Mod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6438600" y="647712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55AB-6FDF-4383-A82F-3018CE03EA33}" type="datetime5">
              <a:rPr b="1" lang="en-US" sz="12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7346520" y="647712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258C-1A18-42D0-ABB3-696288C130EB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0">
            <a:hlinkClick r:id="" action="ppaction://hlinkshowjump?jump=nextslide"/>
          </p:cNvPr>
          <p:cNvSpPr/>
          <p:nvPr/>
        </p:nvSpPr>
        <p:spPr>
          <a:xfrm rot="5400000">
            <a:off x="8641440" y="6522120"/>
            <a:ext cx="158760" cy="176400"/>
          </a:xfrm>
          <a:prstGeom prst="triangle">
            <a:avLst>
              <a:gd name="adj" fmla="val 5000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">
            <a:hlinkClick r:id="" action="ppaction://hlinkshowjump?jump=previousslide"/>
          </p:cNvPr>
          <p:cNvSpPr/>
          <p:nvPr/>
        </p:nvSpPr>
        <p:spPr>
          <a:xfrm flipH="1" rot="16200000">
            <a:off x="8363520" y="6520320"/>
            <a:ext cx="158760" cy="176400"/>
          </a:xfrm>
          <a:prstGeom prst="triangle">
            <a:avLst>
              <a:gd name="adj" fmla="val 5000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of Sources and Uses 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143000" y="1879560"/>
            <a:ext cx="6629400" cy="3586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2 – Key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ing up Flexible Investmen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idating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ng Investments at SPV and Consolidated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Cash Flow Waterfall for Consolidated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Flow Sweep in Consolidated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of Summary P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089000" y="1295280"/>
            <a:ext cx="6966000" cy="487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2 – Investment Portfol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98360" y="1600200"/>
            <a:ext cx="8747280" cy="2570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2743200" y="4114800"/>
            <a:ext cx="3486240" cy="2295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Mechanical Points in Exercise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common start date for all projects in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NDEX function with project code number to arrange inputs for individual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different time period codes for each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kup table with time period codes to set-up S-curve for each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3 – Building Model with Multiple Invest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502000"/>
            <a:ext cx="8229600" cy="27223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990720" y="5410080"/>
            <a:ext cx="38862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 the IRR from the abov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4 – Consolidation of Portfolio with Data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inputs as Exerci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c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Index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INDEX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TABLE with Index Code to Consolidate 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Table in Conso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up table with Project 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code numbers in different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the output desired on the column above the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the individual rows for the consolidat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5 – Flexibl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ercise demonstrates how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model with flexible peri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 an analysis that does not begin at the first day of a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-up begin and end dates in 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IRR’s with flexible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6 – Mixed Use Development Without Automatic Conso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s Principles of Mixed Us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ying S-Curves for individu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ying progress payments for individu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 to consolidate individu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  Estate Characteristics and Corporate versus Project Finance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state and Project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recourse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 Flow and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 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state and Corporate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 of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ng of consolidated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 Database 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371600" y="1198440"/>
            <a:ext cx="6324480" cy="5050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 for Development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8537400" cy="2023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Line for Different Projects in Mixed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762120" y="1944720"/>
            <a:ext cx="7619760" cy="3578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7 – Portfolio with Data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nual Model that Illustrates how to Efficiently Consolidate Projects in Mixed Us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8 – A to Z Model with Scenario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Modeling Standards Illu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Illustrates timing issues for flexibility, accuracy checks, structuring with different parts and transparency with simple form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8 – Single Project Annu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exercise works through structuring and  financial issues associated with a singl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iming in Annu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Structuring  of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and Financing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ario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9 - Comprehensive Mixed Us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96840" y="2743200"/>
            <a:ext cx="8829720" cy="2209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10 – Lease Roll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different risk profiles from alternative lease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cenario Analysis and Break-even analysis for market lease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monte carlo simulation to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s for Lease Ro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811160" y="1905120"/>
            <a:ext cx="4748400" cy="3368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s for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Lease Rates and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e Time After 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Lease Ex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ation Ratios in Real Estate versus Project Finance and Corporate Fin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/E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ed Cash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 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state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Code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for First 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is less than or equal to the expiration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for Idl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is greater than the expiration date and less than or equal to the expiration date plus the idle tim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he AND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for Spo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is greater than the expiration date plus the idl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Names and Code Nu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formula is long for the code number can create range names for the 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formula together with rang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different range names for each component of the 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Function with Row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code number as the basis for the CHOOS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s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ro for Idl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Spot Lease Rate After Idl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10a – Lease Roll with Monte Carlo Sim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on Monthly Basis and Comput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EOMONTH to Comp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iration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Idl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Second 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Fraction of Month Off the 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DAYS360 Function divided by 3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11: Cap Rate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Assumption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Rental Growth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recia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ing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e Cap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Cap Rate for Different Cost of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ation Analysis in Corporate Finance, Project Finance and Real Est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/E Ratio, EV/EBITDA Ratio and Discounted Cash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Value is Major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 IRR and Project 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over Project Life without Terminal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state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 IRR and Project 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Value with Cap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 Analysis in Corporate Finance, Project Finance and Real Estate 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t Repayment from Ability to Re-finance and Credit Quality of Comp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ebt/EBITDA, Debt/Equity and Interest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t Repayment Directly from Cash Flow without 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SCR, LLCR and PL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state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t Repayment from Cash Flow and Ability to Sell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ebt to Value with Cap Rate in 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x Lease Ro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06280" y="2590920"/>
            <a:ext cx="8404200" cy="2009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11 – Cap Rate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384120" y="2209680"/>
            <a:ext cx="8615520" cy="25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of Cap R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 Rate = Net Rental/Value of Prope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Y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the yield on a property = cap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ield = Net Rental/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 Rental = Yield x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 and Cap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 Rate = Yield x Investment/Value of Prope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 Rate/Yield = Investment/Value of Prope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Yield = Cap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 the Investment = Value of Prope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CCAB-90DB-45E0-A13F-E681843D6E7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edbodme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5030-8A53-45B8-AFCA-6879EFF76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of Model 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473120" y="2406600"/>
            <a:ext cx="6197760" cy="265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y Monte Carlo Sim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volatility for leas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time series function for leas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acro for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alternative distributions of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12: Residential Exerc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-up Inputs with Different Milestones for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-up Inputs for Different Payments (which can be the same as the milestone d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 of Payment and Percent of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dential Exercise - Mechan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-up dates with common start date and evaluate dates on a monthly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EOMONTH function for milestone payments and for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construction period in months for the different project 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switches for dates and for the construction peri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Inputs for Finan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57200" y="3257640"/>
            <a:ext cx="8229600" cy="121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of Inputs for Residential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582040" cy="2210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ing and Cash Flow Waterfa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-up Cash Account, Equity Account and Debt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X and MIN functions to evaluate what happens with positive and negative cash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13 - Finan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294920"/>
            <a:ext cx="7619760" cy="487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ing Financing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cade of financing during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land loan and revolving credit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flow waterfall with cash sweeps on debt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flow sweep and allowance for divid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-even analysis from debt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 of Real Estate Exerci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1 – A to Z Basic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Modeling Standards Illu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Illustrates timing issues for flexibility, accuracy checks, structuring with different parts and transparency with simple form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1 - Continu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s the measurement of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 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1 – Hotel Project Fin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s basic structure of project finance model for real est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ing the construction period and holding period separ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ing the financing of th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-up inputs and operations sections in a structured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ing IRR and DSCR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0:53:03Z</dcterms:created>
  <dc:creator>John Lennon</dc:creator>
  <dc:description/>
  <dc:language>en-US</dc:language>
  <cp:lastModifiedBy>Elvis Presley</cp:lastModifiedBy>
  <cp:lastPrinted>1999-07-15T13:20:36Z</cp:lastPrinted>
  <dcterms:modified xsi:type="dcterms:W3CDTF">2012-07-05T14:44:43Z</dcterms:modified>
  <cp:revision>471</cp:revision>
  <dc:subject/>
  <dc:title>Objectives of Project Finance Models</dc:title>
</cp:coreProperties>
</file>